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F03-0DDE-4A11-BA08-67468C16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DA3-263B-4F72-8E6E-B439066A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5AF9F-5FAA-4A6B-B78D-7D3741B3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E6331-32C7-40F2-AD6B-E0571E47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52B6F-7017-4AFB-B666-1FDBB90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545B9-A0F7-4948-BA93-95D4C35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5D5FA-B61B-4B9B-9EAC-35A36218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8B0E-1B9F-4B24-BEAB-5CEFCAC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6D742-D10E-4E38-A762-0C04992C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089C7-C1C8-4365-A647-A7B5CE78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C9917-2F99-45AC-A033-75979651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AAC0C-F98F-4C32-B62E-70A04F5D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439-F37D-44B3-96D5-CDDBB14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62E06-9082-4074-9446-684B13D7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03E1E-58B1-4EAD-A029-62FE214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A90C0-F00E-4860-9E66-9B2DB13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016B8-D23E-4999-8EC7-7C5050B4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FC748-E744-4DD1-B42D-9853940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9B158-FCAC-462F-BC2D-1F97433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AD7E2-9CF5-4BC4-9EB1-15C1CD5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E3AC-8284-4BAF-9406-BA01AE1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3448E-810C-49CD-AB8E-E4C5A4E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69BF8-206E-4831-929F-C4879C8D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DF6-7DA0-402D-84AE-256840B8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25446-FB52-4141-8490-20FCB663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DF154-C8BF-414E-B9DE-65CEAA8A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087F4-9E59-4649-BE8F-9EEF5BBA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E39F5-ACB8-4DD6-80C9-67B274C1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033B-F3EC-4F82-B953-8862BF39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C2B41-B469-472F-91BA-CB8B9855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A9884-5C26-4AF4-8987-25F0B3D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DC971-BB23-4699-8B68-CD1D119D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81AA-C752-4CB7-8A83-C641F92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12566-2315-4054-ACFA-78034A4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D02F-80A8-4475-9928-2770D551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A4E4-98C8-4732-A078-38BF702D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EACF8-5CE2-4D58-8D25-0D00C8D9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82648-E1BC-441E-8C11-FC00D139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72002-0C5E-4F3B-A393-3D568426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DDFEE-7CEF-412D-95BC-576FCAD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3E0A6-2AE8-4D37-8B03-F70D834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B9DF1-9E66-4A2E-86F1-32F0807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4DE04-DAC3-4AED-B303-51C7D620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77FE8-0148-4045-A405-30596CE5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BE58D-1570-48CA-94E6-3439E86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DF8B-694B-42AD-95A8-B25A87A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AB463-BB31-48AC-98EA-9C999D0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1D82F-2648-4EEE-AA8E-B8CAFB6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B375D-DCD7-41AE-9413-3B52B1D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69E57-ACEF-4049-9990-57209FC3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1431-3A38-4AF9-81C7-BEF63C1D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E81E0-AE6B-42A8-A985-37C360F6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62B60-8D96-4A13-BF71-A8239274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9FD17-08A2-4C52-A1F7-28E2AAAE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894E7-61EC-470D-A36C-5971EE2E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28ED0-283E-4EFF-BF3D-5C02F15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82BF-F5AB-41AE-BD98-7EA657D5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E56B2-8031-4826-8C3A-80025F68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66C50-4030-42A2-BE12-292C575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E80D4-2407-43BA-A919-FC4D5117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3945C-A90B-4F61-A13E-9BD2EFD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6291E-24E5-4927-B96A-9D875EA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B4811-5231-4360-B1B6-E1AE9550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3BB03-0BA5-4AA1-BBCE-95B35F1D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F9B10-AA73-46D3-B73C-43BCF2E1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5923F-FF74-4AE6-910D-167257B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D98F2-CF97-42AF-8C00-EF92C67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9CB-E302-4048-B650-54A6FFD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7C71E-14A9-4D0F-9357-167879D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618EE-F716-4EB5-ABD3-F30B189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061EF-405F-4A73-8893-CAA12C42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B5B4D-8027-400D-984A-8A1A7ED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5412A-9D2E-4AEF-BA2A-C04DBF4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460B9-D59F-4028-81EF-781CF2B9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23C13-5DC1-4D05-B200-E6E7ACF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D71A0-C3AD-46AB-91F6-7225B432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B1288-CB63-4729-A066-F58A7879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0D6DB-BF58-4E2E-929F-DCFFBDDF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0A4-ACB5-4E94-9063-6F2EB30F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560C2-3950-4D50-9687-9E85E3B5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A4927-2A36-4AF7-8473-B3BDF0B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0A1C9-A00B-4EC7-9AB6-9840056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551C6-3A47-4CFD-8C17-83DD0EA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63E36-AF76-42A6-8C67-2D89B04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8B9C3-7702-404B-963C-891498A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E0F05-CC14-4D94-8090-CFD053C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A2B21-106B-4E55-8A9C-8B3E2FB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6F94E-895C-40BB-BC96-9765D45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71C59-C93B-4DED-B997-1DEADF20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D904-7B90-4F44-B22A-9363E4B8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5FEBA-1FDB-4CDC-8E62-93BCB09B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92477-3A8E-4D40-B38B-9812D969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EEC77-77B1-4043-B22D-CE9185FA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52395-27F3-4262-B578-640E61DF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C603D-AD5B-4870-B355-3AB7178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F8C39-FC18-4688-8484-E542BC1A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3019A-6C56-450E-AB78-636EBFFD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7BC4C-8F6B-44C0-8F2D-D88ACD3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064C8-3843-41AA-B8CD-91E8C44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5F2F1-73F5-473A-B7FD-E88C8BA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CB29-65E6-4B5B-A296-A08894A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A314C-CA26-4F1E-9697-C2E2D74F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FA31F-2AB4-4029-96EC-130441CC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DBA02-490A-4A2C-BA72-39138116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B603C-D843-4322-8B19-F375EA69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745EC-C326-4BE6-9AC5-D6F413A9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127B4-1FBF-424F-BAD3-C48B499A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6484D-9242-4824-BE06-110F47C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C5392-18E1-479E-BC84-0F05D649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4FE45-F2A4-4740-A0EF-867D6B8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87EF4-F6C7-4B55-B925-6EFB9E1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15F-9CF2-4308-853B-D5354679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C129-6425-4606-B7BE-76CBCB0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25FE6-5E20-4532-9460-488B6F5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1607E-3CC0-4FFF-AD82-2D6A7C7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EFE1E-B807-4885-81AD-410C60E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A9BCC-3EB3-4890-9C4C-1F3B4AA2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AB919-E18E-4EAB-A55B-680C79DA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F0E28-D7B4-4C61-AD05-5835DACB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4006D-B110-4384-9B93-1CADD9B1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44064-8DA1-41B5-9143-7D8E3A1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A859C-54E2-4A6B-BA08-F3B5B8A0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1F50A-2604-4A9E-BE37-FA20324B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74B6-E5B5-4B26-AB29-D1D7DAE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64F33-6441-4FBF-B2FC-F8F5F762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D50CF-8936-44D6-BB29-B6DCE1D5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0CADA-2D01-482C-8865-CF690D7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589CB-FA1C-4E55-8E3F-87B6AEC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9C4BE-8165-4AF8-97D3-8619E7D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3C8CB-2EDE-4633-BC68-D1B78FD8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7496A-C9CC-4762-854A-855B77E3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5B8AA-7ABE-427F-AA9B-7E8453EA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BA917-2147-4ED5-99CB-3DB431CB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9F775-B62D-47C9-8ECA-63C9023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9E90-92C3-46BF-97E6-CEC6B4D1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F711F-C6E9-4C28-9C87-A6673FD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4BD63-A8D8-453B-9905-8351B9FF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786CE-F030-48AF-A02F-B74B98F5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FA9F9-9F34-4EF3-91B9-0AA2846D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D0B7E-8773-470C-B6EF-D412936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06853-6C40-4EC3-9310-1DA3A96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EECB6-1CB2-4E57-A97B-03CB377B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6EF52-03F1-462B-B2DD-CFC9D3A0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3ACD0-4D74-4EEB-9B7E-06A64EBB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D4671-181A-472B-85D2-6EA42AC2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455-403E-4F85-97FA-7884639C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10E346-673B-477B-A744-0515A263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2AF95-3AB4-4E81-B427-28B03E5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B898A-9798-48F0-85DB-2362547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796A8-8212-4028-B955-2C517AD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4EBD2-7D1A-46F9-98AD-30D9786F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4C8FC-D97D-40A3-98AE-78CAA5E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65F50-8860-4A99-8454-7CEFDE2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6F5A1-5E96-43A0-A7BC-AEBDFF48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E0C535-D15E-4F81-8213-8281754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03C8F-E627-4F10-853C-6FE442CA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CCA-AA22-4C2C-BEB3-7659E2ED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34361-655F-4C7D-A858-4B177405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F6F51-22FB-4304-B894-610A3CA8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9EDB5-16A0-48B4-BDBD-6F359FD0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F681C0-ADC8-4EB5-90B3-FD46E5C9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77731-A652-4B1C-B6B2-2AC4FAF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AD9E4-E4EF-4BF1-A7F1-F4DCA54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FA02BA-D85B-4864-8611-06326AB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D432D-CA14-4C9D-A5B6-CA8C326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7DF73-B825-494A-87BD-A9DB8C1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C0020-09DC-4744-B492-FDE3295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06F7B-39AA-49F1-957F-AB3F4BF7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58A96D-EDA0-4E6D-AE24-5B7473B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9654A-ED36-4F9C-A41E-19757C0B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7290C-98C8-4CBE-9ECF-24096C81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DA21-1DF5-4451-84C0-6F42EA85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273F-AB3D-49E7-A3B3-68B7C48B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38FF-0139-4262-AE50-F345F77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0542-BCEF-4C82-9BBD-1F418178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5ED-341E-4DBB-A0CE-9C382D3F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BAA6-7440-40CC-8D6F-7A1E68A6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BCA2-791B-4564-A0A5-CF8A1BE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C483-DA0F-4A66-904F-60752DD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C9FF-6A19-49B0-A0B9-47BFB59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C69D-0335-4747-A045-2E07A45A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E4EC-954C-484B-8B18-D2E27CCA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02B6-30FE-4B65-BB1D-2C731F41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25AE-01E4-4A7B-8599-6124C989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FCFF-3F92-4F94-B54E-EEEC9A2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C41E-90DF-44CA-B74F-5152C928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720-54F8-47C5-9EFF-8C8A6ADC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DFB2-A513-4691-B038-4936E3D9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843C1-FF17-4DE9-88AB-D55C500D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9843-FE69-4FC6-B701-731014A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8A69-086A-4867-9918-3D51C94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05E9-2385-46F4-B56A-E21717E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E186-BD55-4405-887A-CD80C84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5BC2-DFAE-4DDC-9699-9B34BE7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6F9F-7349-4B0B-A428-75103D35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240F-2A8D-4F91-AB3C-11945D0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FDFD-CF55-417A-B16B-23BE23B7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983-5EA1-4EF1-B3D3-F27CAC1D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909A-DA1D-48F1-AFE2-18F5D26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241DE-BD79-4DBB-A98D-71C7EA34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5FB8-AC7F-4D21-8220-78DC279D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FAB1-7F9B-4D52-95F9-512A95FB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D637-85A3-44D9-9895-D0C5274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6247-CC9F-4025-A95B-9F9B080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1BA6-3C79-4902-8D6E-582FA00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9B1B-50F0-4D93-8F8D-618AF1E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F1B0-3C06-4735-BCD9-C3D2115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37A3-DAF7-4CB0-AF01-EA356A12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207-BEDF-447F-8A8D-7E5B01A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540B-BC47-4779-8AF7-0DD5C4BD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0EEB-90D8-41D0-A299-89277E8C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36E15-7C69-4E52-958E-2E378992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6F02-6703-4025-B42D-DA6BB7AB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06B6B-265B-4E08-BC1D-F3B544B9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831B-9019-4EF0-9871-630FFFB4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039E-1635-4D78-8A3E-7D92467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A9C03-6CE3-42E7-AC5F-2A2BF23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765A-720C-438D-9A6A-56B9DD0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F845-8D26-4AAB-9D0B-618DA78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AD1-ADAB-4508-85FA-14C006E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5C21-5885-4B37-973A-BFDADDD8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7DFB6-F720-4055-944B-3E12660F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E209-430C-4309-B8BA-69479741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31DC8-E990-4F6A-BB54-811D9918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DE841-A3E4-4C9D-AD4E-B8338C4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B3C8-EA76-48C5-87E6-18760B3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6990-379A-4587-89C1-4D2070DC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8827-10E1-42ED-B3E4-0397CA01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8BCD-B217-4777-8806-B0BFEF4A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8D9E-2D1A-46E4-84EB-1E0F2865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C35-6BE1-432B-9FA0-D38A074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0B40-30CD-4A9D-8941-7C4D481A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FC80-27A7-45BA-B8C4-3873F7B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BE8A-0E36-4EBA-9B13-7179220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3368-197F-4752-A626-7F1E5833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4285-83DB-4272-8537-489E0148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8474-FF04-43CD-9EE7-6FE0166A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B259-4B44-4599-A887-9B0AEBD1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1F44-1041-4B6B-AE88-D4B13F71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4EE2B-CDEA-4B89-8E0D-863A236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688F-04F6-4B0A-82EB-88FF09E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54C-54BB-417A-B81A-F6048F9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2789-0D72-4811-BECF-840C6B6D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27269-DD95-44C7-A844-025EB54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1CA1A-09F1-44E7-B039-E0A8531E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97C8F-59C6-440C-9B8B-B72A10B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DDDF4-CF2A-414E-AB80-5851B7B8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B477-2AE9-49CA-8E48-6654A7A6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5185-1DC7-4E36-AC64-1C870908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256C8-7E31-4D51-AEA5-D39E3CC4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81147-D08D-4B76-A1E7-1C901649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E9EA-A46D-4431-80B7-00B23391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DD6D-08D5-4D2E-B336-851B65912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CD5-CE9E-4CBC-9048-667E6DD27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038-BC5B-494B-BB54-428F6C6C8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EF6-6A48-4E94-AD37-3923F47925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ED2-A35E-4122-BF70-93BF545BA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D1BD-E837-4F94-B4B7-E1F559DC0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AD3-D777-47B5-B3BE-62FBA2EFE2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3A4E-1CBE-4EC6-92CC-BC2ED51750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D526-E5FA-4790-844C-6E1237428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B026-A878-423B-BDDF-D95CC772FA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8A1-8A61-4E86-B33C-1C81C0441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2A77-01E3-4A2A-86A5-B357D6BDC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CE2-A172-40DA-A2DC-FE758A6F8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A8A-4953-4DDC-B44C-7DA998BD5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3CBF-7779-4C32-AEDA-4C2778B56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376-6D47-42DD-95BF-45D57FA8E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B6F-0335-4951-990D-F626BB25F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1FA-B555-4B51-8423-BA738AA97B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A5DA-5D3B-4017-98AC-BBC12F132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0C5-C6FD-4B27-96A0-FC588F128C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9530-5126-4EBB-B34B-A24BB674D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E1F0-F998-4A16-B96A-4292239AC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F42-84BE-4FAB-870D-B46139F74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FC8-B744-4FD0-8351-060CCB679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2254-CBD7-4B55-99B8-3F8BE06B6E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6D3-5AA9-4695-ADB0-E5B7F9FC53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23E6-5B8C-4E82-AF7A-7423B4DA9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5B9F-6410-4E8B-947E-0F946802E9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C3DC-32E0-43C0-B691-B20A25D0C9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ADDA-DC1A-4246-A9B6-720F8B80F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66B-C924-485A-BA74-9FB4D1830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65C8-7CA9-48D6-8BDA-729DDD558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5D1-9C51-4B77-A3D1-32D9E270F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3B63-5993-4A8B-AA1C-3B5D69325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FEF-97F5-4289-8D86-BEFFBA0FD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B23E-93D5-49E1-A56C-AAB9B7CEC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6369-542E-455F-A06D-175749AADF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E12-F541-43B2-A851-B5809BAD5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BDF-3233-4F76-B3E6-E487BBD7A6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BA66-6B9E-41F8-B758-6166CBB61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48080" y="3257640"/>
            <a:ext cx="40478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7320" y="858960"/>
            <a:ext cx="8829360" cy="5810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0432" descr=""/>
          <p:cNvPicPr/>
          <p:nvPr/>
        </p:nvPicPr>
        <p:blipFill>
          <a:blip r:embed="rId5"/>
          <a:stretch/>
        </p:blipFill>
        <p:spPr>
          <a:xfrm>
            <a:off x="582480" y="172872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60433" descr=""/>
          <p:cNvPicPr/>
          <p:nvPr/>
        </p:nvPicPr>
        <p:blipFill>
          <a:blip r:embed="rId6"/>
          <a:stretch/>
        </p:blipFill>
        <p:spPr>
          <a:xfrm>
            <a:off x="3189240" y="172872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4" descr=""/>
          <p:cNvPicPr/>
          <p:nvPr/>
        </p:nvPicPr>
        <p:blipFill>
          <a:blip r:embed="rId7"/>
          <a:stretch/>
        </p:blipFill>
        <p:spPr>
          <a:xfrm>
            <a:off x="582480" y="220500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5" descr=""/>
          <p:cNvPicPr/>
          <p:nvPr/>
        </p:nvPicPr>
        <p:blipFill>
          <a:blip r:embed="rId8"/>
          <a:stretch/>
        </p:blipFill>
        <p:spPr>
          <a:xfrm>
            <a:off x="3189240" y="220500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6" descr=""/>
          <p:cNvPicPr/>
          <p:nvPr/>
        </p:nvPicPr>
        <p:blipFill>
          <a:blip r:embed="rId9"/>
          <a:stretch/>
        </p:blipFill>
        <p:spPr>
          <a:xfrm>
            <a:off x="582480" y="267984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7" descr=""/>
          <p:cNvPicPr/>
          <p:nvPr/>
        </p:nvPicPr>
        <p:blipFill>
          <a:blip r:embed="rId10"/>
          <a:stretch/>
        </p:blipFill>
        <p:spPr>
          <a:xfrm>
            <a:off x="3189240" y="2679840"/>
            <a:ext cx="1629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66760" y="984240"/>
            <a:ext cx="8610480" cy="5324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51847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3456000" cy="647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345600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684360" y="5300640"/>
            <a:ext cx="439236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755640" y="5661000"/>
            <a:ext cx="46083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838836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838836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1"/>
          <a:stretch/>
        </p:blipFill>
        <p:spPr>
          <a:xfrm>
            <a:off x="838836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2"/>
          <a:stretch/>
        </p:blipFill>
        <p:spPr>
          <a:xfrm>
            <a:off x="84596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3"/>
          <a:stretch/>
        </p:blipFill>
        <p:spPr>
          <a:xfrm>
            <a:off x="8532720" y="465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4"/>
          <a:stretch/>
        </p:blipFill>
        <p:spPr>
          <a:xfrm>
            <a:off x="8532720" y="501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5"/>
          <a:stretch/>
        </p:blipFill>
        <p:spPr>
          <a:xfrm>
            <a:off x="853272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6"/>
          <a:stretch/>
        </p:blipFill>
        <p:spPr>
          <a:xfrm>
            <a:off x="8459640" y="580536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21:1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